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move the slide</a:t>
            </a:r>
            <a:endParaRPr b="0" lang="en-US" sz="4200" spc="-1" strike="noStrike">
              <a:solidFill>
                <a:srgbClr val="d3bdbd"/>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8398-30D5-4BE7-B670-96C31AB85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1404-1F9D-4BBF-A942-1A1E9F244C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0449-E7F8-4810-9CC6-4417C8F43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AB22-D185-42E3-9706-587A6ACC2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B779-2E88-490B-A3FB-7AF9FCCF0D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AB4C-5786-4662-BE59-86315AFF6D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59A6-7EF9-46C9-B2DA-E22C9E41A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7235-F205-4E6E-B880-070823E57C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65B7-49CF-4C2A-AC4A-3C7E74EEA4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0846-DB55-46FD-AC7C-81BE96A675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6611-04C7-4903-AE8F-178F6BCF9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E543-CB6E-428E-B35F-EC0AC16D94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7D86-176D-47DF-AACF-A21F803C53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174B-A5A4-499D-B91B-C1412F723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ED08-9C77-4FC2-9226-4ABFFFDEB9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6B38-0273-4F9D-A608-6B650D45C8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7F321-3607-4755-AFA5-20B8E1D07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7FBC-AF01-4F7E-A172-65780B30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792DD-96D2-4645-9FFF-DDC16077A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0C232-F8CE-406F-8A32-3DB54AF6C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246B0-6A6C-4399-805B-35CDDCAB6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7"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3077-197A-4354-8E6E-2A977EF52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D812B-9D23-4464-924A-3110F7900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1"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4BE0C-0D40-45A4-9DD4-C20F3F361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C1839-F397-4EE7-A318-31F6CD263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B8B8F-33E9-4FD7-AFED-80321E901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6"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0918-5621-4040-93D1-080D2A1F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060CC-0B58-4897-B4FF-C4EE753A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34ED8-8070-4940-8D9E-81F7FE57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4"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8545-2D5E-4F82-A689-0F207D90E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8"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9DE58-32DF-4A35-B306-46F91F1E1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1"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C7C2F-7326-46B7-848E-63FC3E1C2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6"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48B5A-D018-4A8B-B22B-D92D6B8C3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A8E9-52A0-4735-AB47-7147A4287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E3BD-8584-46CF-97D4-D84DC176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35C6-9EF9-421A-A795-A9B972325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9279C-483F-4F7F-BE14-7FC8A564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B70C-D781-4D3C-9EB4-78E00DE8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BC44-10E5-4B4B-A98E-5596437F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0FE5-B0DA-4804-90DA-4AAA632EE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7887-80A1-4487-B6CF-00A6F2C11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42"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DD0A-3117-49E7-B9B9-3F5A2D76A6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Do Now:</a:t>
            </a:r>
            <a:endParaRPr b="0" lang="en-US" sz="4200" spc="-1" strike="noStrike">
              <a:solidFill>
                <a:srgbClr val="d3bdbd"/>
              </a:solidFill>
              <a:latin typeface="Arial"/>
            </a:endParaRPr>
          </a:p>
        </p:txBody>
      </p:sp>
      <p:sp>
        <p:nvSpPr>
          <p:cNvPr id="90" name="PlaceHolder 2"/>
          <p:cNvSpPr>
            <a:spLocks noGrp="1"/>
          </p:cNvSpPr>
          <p:nvPr>
            <p:ph/>
          </p:nvPr>
        </p:nvSpPr>
        <p:spPr>
          <a:xfrm>
            <a:off x="4800240" y="1447920"/>
            <a:ext cx="3505320" cy="441936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see her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year do you think this i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think the public responded?</a:t>
            </a:r>
            <a:endParaRPr b="0" lang="en-US" sz="3200" spc="-1" strike="noStrike">
              <a:solidFill>
                <a:srgbClr val="ffffff"/>
              </a:solidFill>
              <a:latin typeface="Arial"/>
            </a:endParaRPr>
          </a:p>
        </p:txBody>
      </p:sp>
      <p:pic>
        <p:nvPicPr>
          <p:cNvPr id="91" name="Picture 4" descr="kaiser wilson"/>
          <p:cNvPicPr/>
          <p:nvPr/>
        </p:nvPicPr>
        <p:blipFill>
          <a:blip r:embed="rId1"/>
          <a:stretch/>
        </p:blipFill>
        <p:spPr>
          <a:xfrm>
            <a:off x="890640" y="1295280"/>
            <a:ext cx="3681360" cy="506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rguments of Anti-Suffragists:</a:t>
            </a:r>
            <a:endParaRPr b="0" lang="en-US" sz="4200" spc="-1" strike="noStrike">
              <a:solidFill>
                <a:srgbClr val="d3bdbd"/>
              </a:solidFill>
              <a:latin typeface="Arial"/>
            </a:endParaRPr>
          </a:p>
        </p:txBody>
      </p:sp>
      <p:sp>
        <p:nvSpPr>
          <p:cNvPr id="114"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ere high-strung, irrational, emotional</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ere not smart or educated enough</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should stay at home</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ere too physically frail; they would get tired just walking to the polling station</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ould become masculine if they vo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4" descr="map2"/>
          <p:cNvPicPr/>
          <p:nvPr/>
        </p:nvPicPr>
        <p:blipFill>
          <a:blip r:embed="rId1"/>
          <a:stretch/>
        </p:blipFill>
        <p:spPr>
          <a:xfrm>
            <a:off x="1604880" y="195120"/>
            <a:ext cx="5932440" cy="646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The Next Generation</a:t>
            </a:r>
            <a:endParaRPr b="0" lang="en-US" sz="4200" spc="-1" strike="noStrike">
              <a:solidFill>
                <a:srgbClr val="d3bdbd"/>
              </a:solidFill>
              <a:latin typeface="Arial"/>
            </a:endParaRPr>
          </a:p>
        </p:txBody>
      </p:sp>
      <p:sp>
        <p:nvSpPr>
          <p:cNvPr id="119"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 Cady Stanton died 1902</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 B. Anthony died 1906</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n the early 1900s many young middle-class women were going to college and joining the suffrage movement</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working-class women also joined the cause, hoping the right to vote would help improve working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afe or Sorry?</a:t>
            </a:r>
            <a:endParaRPr b="0" lang="en-US" sz="4200" spc="-1" strike="noStrike">
              <a:solidFill>
                <a:srgbClr val="d3bdbd"/>
              </a:solidFill>
              <a:latin typeface="Arial"/>
            </a:endParaRPr>
          </a:p>
        </p:txBody>
      </p:sp>
      <p:sp>
        <p:nvSpPr>
          <p:cNvPr id="121"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 Chapman Catt led the National American Woman Suffrage Association. She believed i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state-by-state strategy</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President Wilson even if he doesn’t outright support suffrage (because Democrats were a safer bet than Republicans)</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 ladylike! Don’t embarrass the movement</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2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2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2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National Woman’s Party</a:t>
            </a:r>
            <a:endParaRPr b="0" lang="en-US" sz="4200" spc="-1" strike="noStrike">
              <a:solidFill>
                <a:srgbClr val="d3bdbd"/>
              </a:solidFill>
              <a:latin typeface="Arial"/>
            </a:endParaRPr>
          </a:p>
        </p:txBody>
      </p:sp>
      <p:sp>
        <p:nvSpPr>
          <p:cNvPr id="123"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ce Paul led the National Woman’s Party; believed in more aggressive strategies:</a:t>
            </a:r>
            <a:endParaRPr b="0" lang="en-US" sz="32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on passing a Constitutional Amendment</a:t>
            </a:r>
            <a:endParaRPr b="0" lang="en-US" sz="24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ked up un-ladylike strategies from British suffragists (e.g., heckling politicians, picketing)</a:t>
            </a:r>
            <a:endParaRPr b="0" lang="en-US" sz="24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used to support President Wilson if he wouldn’t support woman suffrage</a:t>
            </a:r>
            <a:endParaRPr b="0" lang="en-US" sz="24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P members were arrested for picketing in front of the White House; they were put in jail, went on a hunger strike and were force-f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23">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23">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2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2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19th Amendment, 1920</a:t>
            </a:r>
            <a:endParaRPr b="0" lang="en-US" sz="4200" spc="-1" strike="noStrike">
              <a:solidFill>
                <a:srgbClr val="d3bdbd"/>
              </a:solidFill>
              <a:latin typeface="Arial"/>
            </a:endParaRPr>
          </a:p>
        </p:txBody>
      </p:sp>
      <p:sp>
        <p:nvSpPr>
          <p:cNvPr id="125" name="PlaceHolder 2"/>
          <p:cNvSpPr>
            <a:spLocks noGrp="1"/>
          </p:cNvSpPr>
          <p:nvPr>
            <p:ph/>
          </p:nvPr>
        </p:nvSpPr>
        <p:spPr>
          <a:xfrm>
            <a:off x="799920" y="1371240"/>
            <a:ext cx="754380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right of citizens of the United States to vote shall not be denied or abridged by the United States or by any State on account of sex.</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shall have power to enforce this article by appropriate legisl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nessee was the 36th state to ratify and it passed by only 1 vo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80880"/>
            <a:ext cx="6629400" cy="152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The American Woman Suffrage Movement </a:t>
            </a:r>
            <a:br>
              <a:rPr sz="4000"/>
            </a:br>
            <a:r>
              <a:rPr b="0" lang="en-US" sz="4000" spc="-1" strike="noStrike">
                <a:solidFill>
                  <a:srgbClr val="d3bdbd"/>
                </a:solidFill>
                <a:latin typeface="Arial"/>
              </a:rPr>
              <a:t>1848-1920</a:t>
            </a:r>
            <a:endParaRPr b="0" lang="en-US" sz="4000" spc="-1" strike="noStrike">
              <a:solidFill>
                <a:srgbClr val="d3bdbd"/>
              </a:solidFill>
              <a:latin typeface="Arial"/>
            </a:endParaRPr>
          </a:p>
        </p:txBody>
      </p:sp>
      <p:sp>
        <p:nvSpPr>
          <p:cNvPr id="93" name="PlaceHolder 2"/>
          <p:cNvSpPr>
            <a:spLocks noGrp="1"/>
          </p:cNvSpPr>
          <p:nvPr>
            <p:ph type="subTitle"/>
          </p:nvPr>
        </p:nvSpPr>
        <p:spPr>
          <a:xfrm>
            <a:off x="838080" y="2590560"/>
            <a:ext cx="6553440" cy="60948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Rectangle 5"/>
          <p:cNvSpPr/>
          <p:nvPr/>
        </p:nvSpPr>
        <p:spPr>
          <a:xfrm>
            <a:off x="914400" y="4495680"/>
            <a:ext cx="6553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95" name="Rectangle 6"/>
          <p:cNvSpPr/>
          <p:nvPr/>
        </p:nvSpPr>
        <p:spPr>
          <a:xfrm>
            <a:off x="838080" y="2529000"/>
            <a:ext cx="5410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ight to vote</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rage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ranchisement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h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eneca Falls, NY 1848</a:t>
            </a:r>
            <a:endParaRPr b="0" lang="en-US" sz="4200" spc="-1" strike="noStrike">
              <a:solidFill>
                <a:srgbClr val="d3bdbd"/>
              </a:solidFill>
              <a:latin typeface="Arial"/>
            </a:endParaRPr>
          </a:p>
        </p:txBody>
      </p:sp>
      <p:sp>
        <p:nvSpPr>
          <p:cNvPr id="97"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rly 1800s, women involved in abolition (no slavery), temperance (no alcoho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of men and women gather in Seneca Falls, NY in 184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by Elizabeth Cady Stanton and Lucretia Mot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Declaration of Senti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Fifteenth Amendment, 1871</a:t>
            </a:r>
            <a:endParaRPr b="0" lang="en-US" sz="4200" spc="-1" strike="noStrike">
              <a:solidFill>
                <a:srgbClr val="d3bdbd"/>
              </a:solidFill>
              <a:latin typeface="Arial"/>
            </a:endParaRPr>
          </a:p>
        </p:txBody>
      </p:sp>
      <p:sp>
        <p:nvSpPr>
          <p:cNvPr id="99"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African-American men the right to vot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ppoints many women who thought African American men and women would be enfranchised togeth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mericans split over whether men should get vote before w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 </a:t>
            </a:r>
            <a:r>
              <a:rPr b="0" lang="en-US" sz="4200" spc="-1" strike="noStrike">
                <a:solidFill>
                  <a:srgbClr val="d3bdbd"/>
                </a:solidFill>
                <a:latin typeface="Arial"/>
              </a:rPr>
              <a:t>Frederick Douglass, 1869</a:t>
            </a:r>
            <a:endParaRPr b="0" lang="en-US" sz="4200" spc="-1" strike="noStrike">
              <a:solidFill>
                <a:srgbClr val="d3bdbd"/>
              </a:solidFill>
              <a:latin typeface="Arial"/>
            </a:endParaRPr>
          </a:p>
        </p:txBody>
      </p:sp>
      <p:sp>
        <p:nvSpPr>
          <p:cNvPr id="101" name="PlaceHolder 2"/>
          <p:cNvSpPr>
            <a:spLocks noGrp="1"/>
          </p:cNvSpPr>
          <p:nvPr>
            <p:ph/>
          </p:nvPr>
        </p:nvSpPr>
        <p:spPr>
          <a:xfrm>
            <a:off x="837720" y="1371240"/>
            <a:ext cx="7543800" cy="472428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en women, because they are women, . . . are dragged from their houses and hung upon lamp posts; when their children are torn from their arms, and their brains dashed upon the pavement . . . then they will have an urgency to obtain the ballot equal to our own.”</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ut was this not true for the black woman?</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es, yes, yes. It is true for the black woman but not because she is a woman but because she is bl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ojourner Truth, 1869</a:t>
            </a:r>
            <a:endParaRPr b="0" lang="en-US" sz="4200" spc="-1" strike="noStrike">
              <a:solidFill>
                <a:srgbClr val="d3bdbd"/>
              </a:solidFill>
              <a:latin typeface="Arial"/>
            </a:endParaRPr>
          </a:p>
        </p:txBody>
      </p:sp>
      <p:sp>
        <p:nvSpPr>
          <p:cNvPr id="103" name="PlaceHolder 2"/>
          <p:cNvSpPr>
            <a:spLocks noGrp="1"/>
          </p:cNvSpPr>
          <p:nvPr>
            <p:ph/>
          </p:nvPr>
        </p:nvSpPr>
        <p:spPr>
          <a:xfrm>
            <a:off x="3733560" y="1143000"/>
            <a:ext cx="4647960" cy="4572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 is a great stir about colored men getting their rights, but not a word about the colored women . . . And if colored men get their rights, and not colored women theirs, you see the colored men will be masters over the women, and it will be just as bad as it was before.”</a:t>
            </a:r>
            <a:endParaRPr b="0" lang="en-US" sz="2800" spc="-1" strike="noStrike">
              <a:solidFill>
                <a:srgbClr val="ffffff"/>
              </a:solidFill>
              <a:latin typeface="Arial"/>
            </a:endParaRPr>
          </a:p>
        </p:txBody>
      </p:sp>
      <p:pic>
        <p:nvPicPr>
          <p:cNvPr id="104" name="Picture 4" descr="truth"/>
          <p:cNvPicPr/>
          <p:nvPr/>
        </p:nvPicPr>
        <p:blipFill>
          <a:blip r:embed="rId1"/>
          <a:stretch/>
        </p:blipFill>
        <p:spPr>
          <a:xfrm>
            <a:off x="838080" y="1735200"/>
            <a:ext cx="2959200" cy="33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Before 1910  </a:t>
            </a:r>
            <a:endParaRPr b="0" lang="en-US" sz="4200" spc="-1" strike="noStrike">
              <a:solidFill>
                <a:srgbClr val="d3bdbd"/>
              </a:solidFill>
              <a:latin typeface="Arial"/>
            </a:endParaRPr>
          </a:p>
        </p:txBody>
      </p:sp>
      <p:sp>
        <p:nvSpPr>
          <p:cNvPr id="106"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suffrage movement splits, but then unites in 1890</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American Woman Suffrage Association (NAWSA)</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leaders: Susan B. Anthony, Elizabeth Cady Stanton</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ig strategies: </a:t>
            </a:r>
            <a:endParaRPr b="0" lang="en-US" sz="32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win suffrage state-by-state</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pass a Constitutional Amendment (but this would need to be ratified by 36 states--or three-four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6">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usan B. Anthony</a:t>
            </a:r>
            <a:endParaRPr b="0" lang="en-US" sz="4200" spc="-1" strike="noStrike">
              <a:solidFill>
                <a:srgbClr val="d3bdbd"/>
              </a:solidFill>
              <a:latin typeface="Arial"/>
            </a:endParaRPr>
          </a:p>
        </p:txBody>
      </p:sp>
      <p:pic>
        <p:nvPicPr>
          <p:cNvPr id="108" name="Picture 4" descr="anthony"/>
          <p:cNvPicPr/>
          <p:nvPr/>
        </p:nvPicPr>
        <p:blipFill>
          <a:blip r:embed="rId1"/>
          <a:stretch/>
        </p:blipFill>
        <p:spPr>
          <a:xfrm>
            <a:off x="996840" y="1295280"/>
            <a:ext cx="4337280" cy="4038840"/>
          </a:xfrm>
          <a:prstGeom prst="rect">
            <a:avLst/>
          </a:prstGeom>
          <a:ln w="0">
            <a:noFill/>
          </a:ln>
        </p:spPr>
      </p:pic>
      <p:sp>
        <p:nvSpPr>
          <p:cNvPr id="109" name="Rectangle 5"/>
          <p:cNvSpPr/>
          <p:nvPr/>
        </p:nvSpPr>
        <p:spPr>
          <a:xfrm>
            <a:off x="4572000" y="2209680"/>
            <a:ext cx="388620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Susan B. Anthony tried several times to introduce an Amendment bill in the late 1800s, but it was always killed in the Sen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1" name="PlaceHolder 2"/>
          <p:cNvSpPr>
            <a:spLocks noGrp="1"/>
          </p:cNvSpPr>
          <p:nvPr>
            <p:ph/>
          </p:nvPr>
        </p:nvSpPr>
        <p:spPr>
          <a:xfrm>
            <a:off x="5334120" y="1523880"/>
            <a:ext cx="304776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Suffragis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opposed suffrag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nti’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women)</a:t>
            </a:r>
            <a:endParaRPr b="0" lang="en-US" sz="3200" spc="-1" strike="noStrike">
              <a:solidFill>
                <a:srgbClr val="ffffff"/>
              </a:solidFill>
              <a:latin typeface="Arial"/>
            </a:endParaRPr>
          </a:p>
        </p:txBody>
      </p:sp>
      <p:pic>
        <p:nvPicPr>
          <p:cNvPr id="112" name="Picture 5" descr="456px-Anti-suffragist"/>
          <p:cNvPicPr/>
          <p:nvPr/>
        </p:nvPicPr>
        <p:blipFill>
          <a:blip r:embed="rId1"/>
          <a:stretch/>
        </p:blipFill>
        <p:spPr>
          <a:xfrm>
            <a:off x="304920" y="152280"/>
            <a:ext cx="49863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4:42:05Z</dcterms:created>
  <dc:creator>Abby Reisman</dc:creator>
  <dc:description/>
  <dc:language>en-US</dc:language>
  <cp:lastModifiedBy>Sacerdote, Kevin R.</cp:lastModifiedBy>
  <dcterms:modified xsi:type="dcterms:W3CDTF">2016-11-03T15:02:48Z</dcterms:modified>
  <cp:revision>17</cp:revision>
  <dc:subject/>
  <dc:title>The American Women’s Suffrage Movement</dc:title>
</cp:coreProperties>
</file>